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03EB-4695-44C2-8677-2EF1D9E7AA5D}" type="datetime">
              <a:rPr b="0" lang="de-DE" sz="1200" spc="-1" strike="noStrike">
                <a:solidFill>
                  <a:srgbClr val="000000"/>
                </a:solidFill>
                <a:latin typeface="Gill Sans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3655-E6BA-4423-9B19-DE91B2574549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DAE-F12B-453C-BB75-C52C329A1ABA}" type="slidenum">
              <a:rPr b="0" lang="de-DE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95B8-504E-48D8-9DBB-9E4647DBBB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442F-CD61-4F0B-9F1C-445388DA64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ADF4-909C-483D-A2AB-4E131216EA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6909-D523-4B3F-8A29-BA0D6E870E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A3DC-E999-4E6B-ACC9-65504FCA18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DB73-057A-4AE9-ADED-09B65B4F09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F090-0514-4634-AFF6-FDAAB420CA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9C8A-D14C-4C93-BAE9-36DCACE14C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DBEA-692A-468A-9793-9D86D2825D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7F83-DA2E-403B-9E1A-6975BCC520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75DF-F430-4027-BB0B-8614FF791A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42F9-DFF9-49B7-9EA7-12B06647E1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36840" y="240840"/>
            <a:ext cx="11277360" cy="712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270080" y="5973120"/>
            <a:ext cx="1153152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179120" y="201924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27008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7179120" y="5973120"/>
            <a:ext cx="562716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924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068400" y="201924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27008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16924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9068400" y="5973120"/>
            <a:ext cx="3713040" cy="3610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hyperlink" Target="http://www.semantic-web-grundlagen.de/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7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88920" indent="-889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88920" indent="-889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88920" indent="-889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778360" y="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rcRect l="96523" t="0" r="0" b="296"/>
          <a:stretch/>
        </p:blipFill>
        <p:spPr>
          <a:xfrm>
            <a:off x="7226280" y="0"/>
            <a:ext cx="5778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4"/>
          <a:srcRect l="0" t="0" r="95417" b="0"/>
          <a:stretch/>
        </p:blipFill>
        <p:spPr>
          <a:xfrm>
            <a:off x="-3240" y="1440"/>
            <a:ext cx="579456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5"/>
          <a:stretch/>
        </p:blipFill>
        <p:spPr>
          <a:xfrm>
            <a:off x="12476160" y="7656480"/>
            <a:ext cx="45720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317520" y="895320"/>
            <a:ext cx="123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6"/>
              </a:rPr>
              <a:t>www.semantic-web-grundlagen.d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8268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2" marL="1727280" indent="-571680">
              <a:spcBef>
                <a:spcPts val="2401"/>
              </a:spcBef>
              <a:buClr>
                <a:srgbClr val="000000"/>
              </a:buClr>
              <a:buSzPct val="69000"/>
              <a:buFont typeface="Helvetica Neue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3" marL="2171880" indent="-571680">
              <a:spcBef>
                <a:spcPts val="2401"/>
              </a:spcBef>
              <a:buClr>
                <a:srgbClr val="000000"/>
              </a:buClr>
              <a:buFont typeface="Helvetica Neu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4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5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6" marL="2527200" indent="-2527200">
              <a:spcBef>
                <a:spcPts val="2401"/>
              </a:spcBef>
              <a:buClr>
                <a:srgbClr val="000000"/>
              </a:buClr>
              <a:buFont typeface="Helvetica Neu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12600" y="1752480"/>
            <a:ext cx="11849040" cy="63720"/>
          </a:xfrm>
          <a:prstGeom prst="rect">
            <a:avLst/>
          </a:prstGeom>
          <a:gradFill rotWithShape="0">
            <a:gsLst>
              <a:gs pos="0">
                <a:srgbClr val="fcfefe"/>
              </a:gs>
              <a:gs pos="100000">
                <a:srgbClr val="de33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 rot="5400000">
            <a:off x="542880" y="1393560"/>
            <a:ext cx="355320" cy="120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0" y="54612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rcRect l="0" t="0" r="0" b="89741"/>
          <a:stretch/>
        </p:blipFill>
        <p:spPr>
          <a:xfrm>
            <a:off x="0" y="-63360"/>
            <a:ext cx="144792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2687480" y="9410400"/>
            <a:ext cx="3427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ill Sans"/>
                <a:ea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1C4-4846-4BF7-A340-6FAFD924A70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274320" indent="-274320" algn="ctr">
              <a:buClr>
                <a:srgbClr val="000000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274320" indent="-274320" algn="ctr">
              <a:buClr>
                <a:srgbClr val="000000"/>
              </a:buClr>
              <a:buFont typeface="Bodoni SvtyTwo ITC TT-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274320" indent="-274320" algn="ctr">
              <a:buClr>
                <a:srgbClr val="000000"/>
              </a:buClr>
              <a:buFont typeface="Bodoni SvtyTwo ITC TT-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SvtyTwo ITC TT-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semantic-web-grundlagen.de/index.php/Kapitel_2" TargetMode="Externa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3.org/RDF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Semantic Web Technologies I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4940280"/>
            <a:ext cx="10464840" cy="334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Lehrveranstaltung im WS09/10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M.Sc. Markus Krötzsc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C41-D97A-4742-A145-BF68A9B4F9C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standteile von RDF-Graph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RI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zur eindeutigen Referenzierung von Ressourc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reits im Rahmen von XML behandel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beschreiben Datenwerte denen keine separate Existenz zukomm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rlauben Existenzaussagen über ein Individuum mit gewissen Eigenschaften ohne es zu benennen 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BFBC-E82C-4738-AF3D-F6BCC62458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teral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zur Repräsentation von Daten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rstellung als Zeichenket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terpretation erfolgt durch 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terale ohne Datentyp werden wie Zeichenketten behandelt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2565360" y="6870600"/>
            <a:ext cx="9221760" cy="1990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F29F-718F-4372-9C25-4F9A819DB7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raph als Menge von Tripel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schiedene Darstellungsmöglichkeiten für Grap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er verwendet: Liste von (Knoten-Kante-Knoten)-Tripel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rcRect l="0" t="7583" r="0" b="61242"/>
          <a:stretch/>
        </p:blipFill>
        <p:spPr>
          <a:xfrm>
            <a:off x="330120" y="6019920"/>
            <a:ext cx="12314160" cy="841320"/>
          </a:xfrm>
          <a:prstGeom prst="rect">
            <a:avLst/>
          </a:prstGeom>
          <a:ln w="0">
            <a:noFill/>
          </a:ln>
        </p:spPr>
      </p:pic>
      <p:grpSp>
        <p:nvGrpSpPr>
          <p:cNvPr id="495" name="Group 5"/>
          <p:cNvGrpSpPr/>
          <p:nvPr/>
        </p:nvGrpSpPr>
        <p:grpSpPr>
          <a:xfrm>
            <a:off x="393840" y="6032520"/>
            <a:ext cx="5058360" cy="2349000"/>
            <a:chOff x="393840" y="6032520"/>
            <a:chExt cx="5058360" cy="2349000"/>
          </a:xfrm>
        </p:grpSpPr>
        <p:pic>
          <p:nvPicPr>
            <p:cNvPr id="496" name="Picture 6" descr=""/>
            <p:cNvPicPr/>
            <p:nvPr/>
          </p:nvPicPr>
          <p:blipFill>
            <a:blip r:embed="rId2"/>
            <a:srcRect l="1003" t="8498" r="64050" b="4357"/>
            <a:stretch/>
          </p:blipFill>
          <p:spPr>
            <a:xfrm>
              <a:off x="393840" y="6032520"/>
              <a:ext cx="437868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7" descr=""/>
            <p:cNvPicPr/>
            <p:nvPr/>
          </p:nvPicPr>
          <p:blipFill>
            <a:blip r:embed="rId3"/>
            <a:srcRect l="35555" t="42441" r="58628" b="42898"/>
            <a:stretch/>
          </p:blipFill>
          <p:spPr>
            <a:xfrm>
              <a:off x="4722480" y="6947280"/>
              <a:ext cx="72972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8" name="Group 8"/>
          <p:cNvGrpSpPr/>
          <p:nvPr/>
        </p:nvGrpSpPr>
        <p:grpSpPr>
          <a:xfrm>
            <a:off x="7399440" y="5989680"/>
            <a:ext cx="5149080" cy="2374560"/>
            <a:chOff x="7399440" y="5989680"/>
            <a:chExt cx="5149080" cy="2374560"/>
          </a:xfrm>
        </p:grpSpPr>
        <p:pic>
          <p:nvPicPr>
            <p:cNvPr id="499" name="Picture 9" descr=""/>
            <p:cNvPicPr/>
            <p:nvPr/>
          </p:nvPicPr>
          <p:blipFill>
            <a:blip r:embed="rId4"/>
            <a:srcRect l="64076" t="6668" r="775" b="5272"/>
            <a:stretch/>
          </p:blipFill>
          <p:spPr>
            <a:xfrm>
              <a:off x="8236800" y="5989680"/>
              <a:ext cx="4311720" cy="23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10" descr=""/>
            <p:cNvPicPr/>
            <p:nvPr/>
          </p:nvPicPr>
          <p:blipFill>
            <a:blip r:embed="rId5"/>
            <a:srcRect l="57245" t="43380" r="35929" b="41960"/>
            <a:stretch/>
          </p:blipFill>
          <p:spPr>
            <a:xfrm>
              <a:off x="7399440" y="6978600"/>
              <a:ext cx="837360" cy="396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D44B-B2A1-4DA5-AA6E-1867EC349B2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-Trip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6330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standteile eines RDF-Tripels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      </a:t>
            </a:r>
            <a:r>
              <a:rPr b="0" i="1" lang="en-US" sz="3500" spc="-1" strike="noStrike">
                <a:solidFill>
                  <a:srgbClr val="000000"/>
                </a:solidFill>
                <a:latin typeface="Helvetica Neue"/>
              </a:rPr>
              <a:t>Subjekt          Prädikat          Objekt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ngelehnt an linguistische Kategorien, aber nicht immer stimmig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rlaubte Belegungen: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Subjekt : URI oder leerer Knoten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Prädikat: URI         (auch Propertys genannt)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Objekt   : URI oder leerer Knoten oder Litera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Knoten- und Kantenbezeichner eindeutig, daher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ursprünglicher Graph aus Tripel-Liste rekonstruierbar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1079640" y="2793960"/>
            <a:ext cx="1121544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40CC-A803-419B-9579-9DBD044F975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F6A2-D8DA-4AA1-BE94-52C7D056D79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Einfache Syntax für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Auflistung der Trip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3: "Notation 3" - umfangreicher Formalismu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N-Triples: Teil von N3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: Erweiterung von N-Triples (Abkürzungen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in 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Is in spitzen Klammer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iterale in Anführungszeich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ripel durch Punkt abgeschloss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400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Leerzeichen und Zeilenumbrüche außerhalb von Bezeichenern werden ignorier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813D-8A51-4120-96D8-B92D2D91C647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Beispiel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auch in Turtle können Abkürzungen für Präfixe festgelegt werd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2095560" y="6705720"/>
            <a:ext cx="9870840" cy="2509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2286000" y="2565360"/>
            <a:ext cx="9794880" cy="234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ABF-AAFD-4C65-9853-BCAC95CB16B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urtle Syntax: Abkürz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mehrere Tripel mit gleichem Subjekt kann man zusammenfassen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Helvetica Neue"/>
              </a:rPr>
              <a:t>ebenso Tripel mit gleichem Subjekt und Prädikat:</a:t>
            </a:r>
            <a:endParaRPr b="0" lang="en-US" sz="35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10362960" cy="2556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2043000" y="7404120"/>
            <a:ext cx="10547640" cy="1663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2DC2-EC91-4933-9FFA-FB8227082DD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 intuitiv gut lesbar und maschinenverarbeit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ber: bessere Tool-Unterstützung und Programmbibliotheken für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her: XML-Syntax am verbreitet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E01-A3CA-4DAD-924F-B326432AE64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wie in XML werden Namensräume eingesetzt, um Tagnamen zu disambiguier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-eigene tags haben einen festgelegten Na-mensraum, der Bezeichner ist standardmäßig ‘rdf’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004840" y="4927680"/>
            <a:ext cx="10071360" cy="483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687240" y="3683160"/>
          <a:ext cx="6070680" cy="5483160"/>
        </p:xfrm>
        <a:graphic>
          <a:graphicData uri="http://schemas.openxmlformats.org/drawingml/2006/table">
            <a:tbl>
              <a:tblPr/>
              <a:tblGrid>
                <a:gridCol w="6070680"/>
              </a:tblGrid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leitung und XM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nführung in RDF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DF Schem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k - Grundla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k von RDF(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- Semantik und Reason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L 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RQL - Syntax und Intuit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njunktive Anfragen / Einführung Regelsprachen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eln für OW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tology Engineer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19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tic Web - Anwendunge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bf1f14"/>
                      </a:solidFill>
                    </a:lnL>
                    <a:lnR w="12240">
                      <a:solidFill>
                        <a:srgbClr val="bf1f14"/>
                      </a:solidFill>
                    </a:lnR>
                    <a:lnT w="12240">
                      <a:solidFill>
                        <a:srgbClr val="bf1f14"/>
                      </a:solidFill>
                    </a:lnT>
                    <a:lnB w="12240">
                      <a:solidFill>
                        <a:srgbClr val="bf1f1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00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Bodoni SvtyTwo SC ITC TT-Book"/>
              </a:rPr>
              <a:t>Einführung in RDF</a:t>
            </a:r>
            <a:endParaRPr b="0" lang="en-US" sz="84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2882520"/>
            <a:ext cx="1046484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SvtyTwo ITC TT-Book"/>
              </a:rPr>
              <a:t>Dr. Sebastian Rudolph</a:t>
            </a:r>
            <a:endParaRPr b="0" lang="en-US" sz="3600" spc="-1" strike="noStrike">
              <a:solidFill>
                <a:srgbClr val="000000"/>
              </a:solidFill>
              <a:latin typeface="Bodoni SvtyTwo ITC TT-Book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7346880" y="3309840"/>
            <a:ext cx="4622760" cy="38916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7345440" y="3325680"/>
            <a:ext cx="4626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3120" tIns="38160" bIns="38160" anchor="b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Semantic Web Architectu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7346880" y="3676680"/>
            <a:ext cx="4632480" cy="5716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0" name="Picture 6" descr=""/>
          <p:cNvPicPr/>
          <p:nvPr/>
        </p:nvPicPr>
        <p:blipFill>
          <a:blip r:embed="rId1"/>
          <a:stretch/>
        </p:blipFill>
        <p:spPr>
          <a:xfrm>
            <a:off x="7532640" y="3906720"/>
            <a:ext cx="4280040" cy="44308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7643880" y="5780160"/>
            <a:ext cx="3254400" cy="290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507520" y="8313840"/>
            <a:ext cx="1766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Now standardiz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643880" y="4502160"/>
            <a:ext cx="4116240" cy="126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8150400" y="4546440"/>
            <a:ext cx="1674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77400" tIns="38160" bIns="38160" anchor="ctr">
            <a:noAutofit/>
          </a:bodyPr>
          <a:p>
            <a:pPr algn="ctr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3636"/>
                </a:solidFill>
                <a:latin typeface="Helvetica Neue"/>
                <a:ea typeface="Helvetica Neue"/>
              </a:rPr>
              <a:t>Current researc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7480440" y="3848040"/>
            <a:ext cx="4457520" cy="4876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6" name="Picture 12" descr=""/>
          <p:cNvPicPr/>
          <p:nvPr/>
        </p:nvPicPr>
        <p:blipFill>
          <a:blip r:embed="rId2"/>
          <a:srcRect l="3511" t="67446" r="21726" b="22809"/>
          <a:stretch/>
        </p:blipFill>
        <p:spPr>
          <a:xfrm>
            <a:off x="7670880" y="69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63"/>
          <p:cNvSpPr/>
          <p:nvPr/>
        </p:nvSpPr>
        <p:spPr>
          <a:xfrm>
            <a:off x="647640" y="4140360"/>
            <a:ext cx="6108840" cy="431640"/>
          </a:xfrm>
          <a:prstGeom prst="rect">
            <a:avLst/>
          </a:prstGeom>
          <a:noFill/>
          <a:ln w="88920">
            <a:solidFill>
              <a:srgbClr val="bf1f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Rectangle 64"/>
          <p:cNvSpPr/>
          <p:nvPr/>
        </p:nvSpPr>
        <p:spPr>
          <a:xfrm>
            <a:off x="25560" y="9468000"/>
            <a:ext cx="1591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entspricht dem ersten Teil von Kapitel 3 des Buches „Semantic Web - Grundlagen“ - siehe auch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Helvetica Neue"/>
                <a:ea typeface="Helvetica Neue"/>
                <a:hlinkClick r:id="rId3"/>
              </a:rPr>
              <a:t>http://www.semantic-web-grundlagen.de/index.php/Kapitel_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517B-867A-41C0-AAD2-626B961B25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2070000"/>
            <a:ext cx="1026144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Das rdf:Description-Element kodiert das Subjekt (dessen URI wird als Wert des zugehörigen rdf:about-Attributs angegeben)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Jedes geschachtelt im rdf:Description-Element enthaltene Element steht für ein Prädikat (dessen URI ist der Elementname), das wiederum das Tripel-Objekt als rdf:Description-Element enthäl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rcRect l="0" t="33598" r="238" b="17845"/>
          <a:stretch/>
        </p:blipFill>
        <p:spPr>
          <a:xfrm>
            <a:off x="1003320" y="6908760"/>
            <a:ext cx="10045800" cy="23497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 rot="5400000">
            <a:off x="7812000" y="4819680"/>
            <a:ext cx="8559720" cy="1257120"/>
          </a:xfrm>
          <a:prstGeom prst="rect">
            <a:avLst/>
          </a:prstGeom>
          <a:ln w="0">
            <a:noFill/>
          </a:ln>
        </p:spPr>
      </p:pic>
      <p:sp>
        <p:nvSpPr>
          <p:cNvPr id="533" name="Line 5"/>
          <p:cNvSpPr/>
          <p:nvPr/>
        </p:nvSpPr>
        <p:spPr>
          <a:xfrm flipH="1">
            <a:off x="10109160" y="3860640"/>
            <a:ext cx="1641600" cy="311472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Line 6"/>
          <p:cNvSpPr/>
          <p:nvPr/>
        </p:nvSpPr>
        <p:spPr>
          <a:xfrm flipH="1">
            <a:off x="4089240" y="7450200"/>
            <a:ext cx="6731280" cy="712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Line 7"/>
          <p:cNvSpPr/>
          <p:nvPr/>
        </p:nvSpPr>
        <p:spPr>
          <a:xfrm flipH="1" flipV="1">
            <a:off x="10616760" y="7902360"/>
            <a:ext cx="1032120" cy="468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Line 8"/>
          <p:cNvSpPr/>
          <p:nvPr/>
        </p:nvSpPr>
        <p:spPr>
          <a:xfrm flipH="1">
            <a:off x="10769400" y="5349960"/>
            <a:ext cx="1539720" cy="2108160"/>
          </a:xfrm>
          <a:prstGeom prst="line">
            <a:avLst/>
          </a:prstGeom>
          <a:ln w="114480">
            <a:solidFill>
              <a:srgbClr val="9016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DFD5-5156-49CF-87A0-2FC56F79D4D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getypte Literale können als Freitext in das Prädikatelement eingeschlos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e Darstellung erlaubt: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 Subjekt enthält mehrere Property-Elemen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1199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ine Objekt-Description dient als Subjekt für ein weiteres Trip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511280" y="6095880"/>
            <a:ext cx="8039160" cy="2745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C3B-0D51-46ED-AF51-C35D0AE9D43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XML-Syntax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ternative (aber semantisch gleichwertige) Darstellung für Literale als XML-Attribut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ttributnamen sind dann die Property-URI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ngabe von Objekt-URIs als Wert des rdf:resource-Attributs innerhalb eines Property-Tags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165240" y="6019920"/>
            <a:ext cx="7864200" cy="1979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165640" y="8023320"/>
            <a:ext cx="783108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FC9E-D793-4BD8-B067-8C964E4302E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Komplikation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Namensräume sind essentiell (nicht nur Abkürzung), da in XML-Elementen und -Attributen keine Doppelpunkte zulässig, die keine Namensräume kodieren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Problem: in XML keine Namensräume in Attributwerten möglich (würde im Sinne eines URI-Schemas interpretiert), also z.B. verboten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"Workaround" via XML-Entitäten: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Deklaration: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Helvetica Neue"/>
              </a:rPr>
              <a:t>Verwendung:</a:t>
            </a:r>
            <a:endParaRPr b="0" lang="en-US" sz="33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2476440" y="7535880"/>
            <a:ext cx="7183440" cy="565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2489040" y="8470800"/>
            <a:ext cx="7147080" cy="52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"/>
          <p:cNvPicPr/>
          <p:nvPr/>
        </p:nvPicPr>
        <p:blipFill>
          <a:blip r:embed="rId3"/>
          <a:stretch/>
        </p:blipFill>
        <p:spPr>
          <a:xfrm>
            <a:off x="2832120" y="5575320"/>
            <a:ext cx="620244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46DA-9540-4D60-92A8-096139A7BBD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/XML-Syntax: Basis-URIs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rbeit mit Basis-URIs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kennung relativer URIs an Abwesenheit eines Schemateil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95640" y="2857680"/>
            <a:ext cx="9316800" cy="292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1AA1-11BD-42FF-971A-4092BD3447E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ADB6-B353-4742-9D2A-E3B9DB630C2B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- Abstrakt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67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xsd:decima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781920" indent="-50256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decimal gilt "3.14"="+03.14"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zgl. xsd:string nicht!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3" name="Oval 3"/>
          <p:cNvSpPr/>
          <p:nvPr/>
        </p:nvSpPr>
        <p:spPr>
          <a:xfrm>
            <a:off x="1930320" y="3835440"/>
            <a:ext cx="2540160" cy="411480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Oval 4"/>
          <p:cNvSpPr/>
          <p:nvPr/>
        </p:nvSpPr>
        <p:spPr>
          <a:xfrm>
            <a:off x="8928000" y="4305240"/>
            <a:ext cx="2502000" cy="3505320"/>
          </a:xfrm>
          <a:prstGeom prst="ellipse">
            <a:avLst/>
          </a:prstGeom>
          <a:solidFill>
            <a:srgbClr val="fffb5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8614800" y="2886480"/>
            <a:ext cx="338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Werte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235440" y="2886480"/>
            <a:ext cx="5106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lexikalischer Berei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9711720" y="4649040"/>
            <a:ext cx="604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3,14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9635400" y="5766840"/>
            <a:ext cx="52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-2,5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9879840" y="6985800"/>
            <a:ext cx="52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2678040" y="4141080"/>
            <a:ext cx="854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2418120" y="4763520"/>
            <a:ext cx="1375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3.140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2821680" y="55890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+03.14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3034440" y="6414480"/>
            <a:ext cx="7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-2.5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2504160" y="718920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"100.00"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15"/>
          <p:cNvSpPr/>
          <p:nvPr/>
        </p:nvSpPr>
        <p:spPr>
          <a:xfrm flipH="1" flipV="1">
            <a:off x="3632040" y="4287960"/>
            <a:ext cx="5997600" cy="45720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Line 16"/>
          <p:cNvSpPr/>
          <p:nvPr/>
        </p:nvSpPr>
        <p:spPr>
          <a:xfrm flipH="1">
            <a:off x="3822480" y="4846680"/>
            <a:ext cx="5824440" cy="1396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17"/>
          <p:cNvSpPr/>
          <p:nvPr/>
        </p:nvSpPr>
        <p:spPr>
          <a:xfrm flipH="1">
            <a:off x="4025520" y="4948200"/>
            <a:ext cx="5638680" cy="80028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18"/>
          <p:cNvSpPr/>
          <p:nvPr/>
        </p:nvSpPr>
        <p:spPr>
          <a:xfrm flipH="1">
            <a:off x="3846600" y="6014880"/>
            <a:ext cx="5783040" cy="62244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19"/>
          <p:cNvSpPr/>
          <p:nvPr/>
        </p:nvSpPr>
        <p:spPr>
          <a:xfrm flipH="1">
            <a:off x="3804840" y="7183440"/>
            <a:ext cx="6078600" cy="185760"/>
          </a:xfrm>
          <a:prstGeom prst="line">
            <a:avLst/>
          </a:prstGeom>
          <a:ln w="139680">
            <a:solidFill>
              <a:srgbClr val="d70000">
                <a:alpha val="68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20"/>
          <p:cNvSpPr/>
          <p:nvPr/>
        </p:nvSpPr>
        <p:spPr>
          <a:xfrm>
            <a:off x="4316040" y="3673800"/>
            <a:ext cx="4844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atentypabbildu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7D90-88E9-4167-8CB9-9C8C27ECC91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isher: Literale ungetypt, wie Zeichenketten behandelt (also z.B.: "02"&lt;"100"&lt;"11"&lt;"2"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ypung erlaubt besseren (semantischen = bedeutungsgemäßen) Umgang mit Wer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 werden durch URIs identifiziert und sind im Prinzip frei wählba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äufig: Verwendung von xsd-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wert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^^</a:t>
            </a:r>
            <a:r>
              <a:rPr b="0" i="1" lang="en-US" sz="4200" spc="-1" strike="noStrike">
                <a:solidFill>
                  <a:srgbClr val="000000"/>
                </a:solidFill>
                <a:latin typeface="Helvetica Neue"/>
              </a:rPr>
              <a:t>Datentyp-URI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8572-D9FB-45C0-8F9B-26F7D2AA397C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atentypen in RDF - Beispie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43080" y="20318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3238560" y="2171880"/>
            <a:ext cx="9563040" cy="23968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3174840" y="5181480"/>
            <a:ext cx="8021880" cy="12826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"/>
          <p:cNvPicPr/>
          <p:nvPr/>
        </p:nvPicPr>
        <p:blipFill>
          <a:blip r:embed="rId3"/>
          <a:stretch/>
        </p:blipFill>
        <p:spPr>
          <a:xfrm>
            <a:off x="3200400" y="6946920"/>
            <a:ext cx="793908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C045-7933-4DC5-948C-5AC0AD2E2F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Der vordefinierte Datentyp</a:t>
            </a: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	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:XMLLiteral ist einziger vordefinierter Datentyp in RDF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zeichnet beliebige (balancierte) XML-Fragment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n RDF/XML besondere Syntax zur eindeutigen Darstellung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1"/>
          <a:stretch/>
        </p:blipFill>
        <p:spPr>
          <a:xfrm>
            <a:off x="1905120" y="6718320"/>
            <a:ext cx="9740880" cy="287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ED29-1F74-4F77-A8B0-1C243B9D9D2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3ADD-E2AA-48D7-B996-D3980A185BB9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prachinformationen beeinflussen nur ungetypte Litera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739880" y="5270400"/>
            <a:ext cx="11176200" cy="167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1714680" y="7848720"/>
            <a:ext cx="10921680" cy="91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4528-0542-44FB-9C85-153FE6CA2B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Sprachangaben und Datentyp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nach RDF-Spezifikation sind demnach die folgenden Literale unterschiedlic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...werden aber häufig (intuitionsgemäß) als gleich implementiert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1816200" y="3568680"/>
            <a:ext cx="1042668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42AC-7E85-43A2-A11D-9E427887EA0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088-8512-4E2F-9F86-0417D1CB175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ers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nicht zufriedenstellend: Zutaten samt Menge als Zeichenkette. Suche nach Rezepten, die grüne Mango beinhalten, so nicht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9" name="Picture 3" descr=""/>
          <p:cNvPicPr/>
          <p:nvPr/>
        </p:nvPicPr>
        <p:blipFill>
          <a:blip r:embed="rId1"/>
          <a:stretch/>
        </p:blipFill>
        <p:spPr>
          <a:xfrm>
            <a:off x="2030400" y="5499000"/>
            <a:ext cx="10277640" cy="81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F84-0354-460C-95D5-9BFF2721961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Kochen mit RDF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r>
              <a:rPr b="0" i="1" lang="en-US" sz="3400" spc="-1" strike="noStrike">
                <a:solidFill>
                  <a:srgbClr val="000000"/>
                </a:solidFill>
                <a:latin typeface="Helvetica Neue"/>
              </a:rPr>
              <a:t>Für die Zubereitung von Chutney benötigt man 450g grüne Mango, einen Teelöffel Cayennepfeffer, ...</a:t>
            </a: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"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zweiter Modellierungsversuch: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Helvetica Neue"/>
              </a:rPr>
              <a:t>überhaupt nicht zufriedenstellend: keine eindeutige Zuordnung von konkreter Zutat und Menge mehr möglich.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2082960" y="5308560"/>
            <a:ext cx="1060596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708-33C4-4643-A631-0E45B7291713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Problem: es handelt sich um eine echte dreiwertige (auch: ternäre) Beziehung (s. z.B. Datenbank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irekte Darstellung in RDF nicht möglich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Einführung von Hilfs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859120" y="4356000"/>
          <a:ext cx="7264440" cy="2055960"/>
        </p:xfrm>
        <a:graphic>
          <a:graphicData uri="http://schemas.openxmlformats.org/drawingml/2006/table">
            <a:tbl>
              <a:tblPr/>
              <a:tblGrid>
                <a:gridCol w="2101680"/>
                <a:gridCol w="3367080"/>
                <a:gridCol w="17956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erich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Zut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Men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0ad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grüne Mang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450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hutne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Cayennepfeff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elvetica Neue"/>
                        </a:rPr>
                        <a:t>1 T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C15B-FD25-4379-812B-D4293A9A411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ehrwertige Beziehung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Hilfsknoten in RDF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-Syntax (mit Verwendung von rdf:value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2324160" y="3733920"/>
            <a:ext cx="9423360" cy="19177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2"/>
          <a:stretch/>
        </p:blipFill>
        <p:spPr>
          <a:xfrm>
            <a:off x="2093760" y="6921360"/>
            <a:ext cx="10379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D377-6CC4-4F02-AA06-6A65AA21542F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7479-5C05-4EAD-B459-A14966367F4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 (blank nodes, bnodes) können für Ressourcen verwendet werden, die nicht benannt werden müssen (z.B. Hilfsknot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ls Existenzaussagen gelesen werd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ls Grap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603520" y="7404120"/>
            <a:ext cx="886932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F85-A739-427A-8A10-A40A1CC58F1E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2489040" y="7264440"/>
            <a:ext cx="8817120" cy="2166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" descr=""/>
          <p:cNvPicPr/>
          <p:nvPr/>
        </p:nvPicPr>
        <p:blipFill>
          <a:blip r:embed="rId2"/>
          <a:stretch/>
        </p:blipFill>
        <p:spPr>
          <a:xfrm>
            <a:off x="2487600" y="3733920"/>
            <a:ext cx="8809200" cy="2543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44A2-04F5-4117-8EA5-8AB0B0DB768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0E5A-7EB3-4326-A052-F07E45EC4121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eere Kno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0"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erkürz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805120" y="3670200"/>
            <a:ext cx="9640800" cy="1273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2832120" y="6273720"/>
            <a:ext cx="9575640" cy="124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CA31-D5D6-4972-9CF2-5A6F6C05EF84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09B2-E9EE-468C-849C-8372B97839F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82680" y="1854000"/>
            <a:ext cx="11531520" cy="794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844200" indent="-5425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allgemeine Datenstrukturen zur Aufzählung von beliebig vielen Ressourcen (Reihenfolge relevant), z.B. Autoren eines Buches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Unterscheidung zwisch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ffenen Listen (Container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neuen Einträgen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6648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schlossenen Listen (Collections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Hinzufügen von  neuen Einträgen nicht möglic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44200" indent="-542520">
              <a:spcBef>
                <a:spcPts val="20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önnen auch mit bereits vorgestellten Ausdrucksmitteln modelliert werden, also keine zusätzliche Ausdrucksstärke!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7067-AD3F-42D1-AD00-D791C501A068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Offene Listen (Container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erkürzt in RDF/XML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2171880" y="2755800"/>
            <a:ext cx="8650080" cy="28069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"/>
          <p:cNvPicPr/>
          <p:nvPr/>
        </p:nvPicPr>
        <p:blipFill>
          <a:blip r:embed="rId2"/>
          <a:stretch/>
        </p:blipFill>
        <p:spPr>
          <a:xfrm>
            <a:off x="2860560" y="6642000"/>
            <a:ext cx="727416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087-5547-4287-A1BC-D6B14F213CE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Typen offener Listen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86184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via rdf:type wird dem Listen-Wurzelknoten ein Listentyp zugewiesen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Seq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geordnete Liste (Sequenz)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Ba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erpretation als ungeordnete Me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 RDF kodierte Reihenfolge nicht von Bela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293120" indent="-55404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rdf:Al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Menge alternativer Möglichkeit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 Regelfall immer nur ein Listeneintrag relev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E3F5-B5BF-4F98-BBAD-B0AC1748B8B5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Graph: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26560" indent="-53100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Idee: rekursive Zerlegung der Liste in Kopfelement und (möglicherweise leere) Restliste. 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57" name="Picture 3" descr=""/>
          <p:cNvPicPr/>
          <p:nvPr/>
        </p:nvPicPr>
        <p:blipFill>
          <a:blip r:embed="rId1"/>
          <a:stretch/>
        </p:blipFill>
        <p:spPr>
          <a:xfrm>
            <a:off x="2755800" y="2324160"/>
            <a:ext cx="869004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D37-C34D-4478-907B-4ED2AF38891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Geschlossene Listen (Collections)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/XML-Syntax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urtle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61" name="Picture 3" descr=""/>
          <p:cNvPicPr/>
          <p:nvPr/>
        </p:nvPicPr>
        <p:blipFill>
          <a:blip r:embed="rId1"/>
          <a:stretch/>
        </p:blipFill>
        <p:spPr>
          <a:xfrm>
            <a:off x="1917720" y="3009960"/>
            <a:ext cx="10258560" cy="29844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1890720" y="7543800"/>
            <a:ext cx="10858320" cy="120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79FF-B60C-4F56-A560-CE79C406AA3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Verbreitungsgrad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heute existiert Vielzahl von RDF-Tools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Programmier-Bibliotheken für praktisch jede Programmiersprache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frei verfügbare Systeme zum Umgang mit großen RDF-Datenmengen (sogenannte RDF Stores oder Triple Stores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auch kommerzielle Anbieter (z.B. Oracle) unterstützen zunehmend RDF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Grundlage für Datenformate: RSS 1.0, XMP (Adobe), SVG (Vektorgrafikformat)</a:t>
            </a:r>
            <a:endParaRPr b="0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15B-5E6C-4B7C-ADB7-88962DF7ADB0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Bewertung von RDF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eitläufig unterstützter Standard für Speicherung und Austausch von Da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rmöglicht weitgehend syntaxunabhängige Darstellung verteilter Informationen in graphbasiertem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ines RDF sehr "individuenorientier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kaum Möglichkeiten zur Kodierung von Schemawiss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60160" indent="-2988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➜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  <a:ea typeface="Zapf Dingbats"/>
              </a:rPr>
              <a:t>RDF Schema (nächste Vorlesung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0572-231F-4DCB-809E-2A9322AB9316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Tag-Namen ambig (durch Namespaces und URIs behebbar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aumstruktur nicht optimal für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tuitive Beschreibung der Dat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nformationsintegra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Beispiel: wie kodiert man in einem Baum den Fakt: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?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1536840" y="241200"/>
            <a:ext cx="11277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  <a:ea typeface="Bodoni SvtyTwo SC ITC TT-Book"/>
              </a:rPr>
              <a:t>Unzulänglichkeiten von XML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6E1A-18C4-4904-B962-E26B78AB0FB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Modellierungsprobleme in XML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"Das Buch 'Semantic Web - Grundlagen' wird beim Springer-Verlag verlegt"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5716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                                          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etc. ....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1143000" y="3600360"/>
            <a:ext cx="7429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&gt;Springer-Verlag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&gt;Semantic Web - Grundlagen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egt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5816520" y="5213520"/>
            <a:ext cx="74296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ag Name="Springer-Verlag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t Buch="Semantic Web - Grundlagen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Verlag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143000" y="6927840"/>
            <a:ext cx="74296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Buch Name="Semantic Web - Grundlagen"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Verleger Verlag="Springer-Verlag" /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&lt;/Buch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197-038F-4658-B243-B2ADF656FB82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RDF: Graphen statt Bäume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ösung: Darstellung durch (gerichtete Graphen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1422360" y="5334120"/>
            <a:ext cx="11215800" cy="96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76D-CBB0-4BC4-8356-4105D985153D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genda</a:t>
            </a: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otivatio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bf1f14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f1f14"/>
                </a:solidFill>
                <a:latin typeface="Helvetica Neue"/>
              </a:rPr>
              <a:t>RDF-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Syntax für RDF: Turtle und XM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Datentyp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mehrwertige Beziehung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eere Kno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Listen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liennummernplatzhalter 3"/>
          <p:cNvSpPr/>
          <p:nvPr/>
        </p:nvSpPr>
        <p:spPr>
          <a:xfrm>
            <a:off x="12687480" y="94107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1D5-C1C7-48CD-A21C-EDA084F59D2A}" type="slidenum"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36840" y="240840"/>
            <a:ext cx="11277360" cy="1536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Bodoni SvtyTwo SC ITC TT-Book"/>
              </a:rPr>
              <a:t>Allgemeines zu RDF</a:t>
            </a:r>
            <a:br>
              <a:rPr sz="6200"/>
            </a:br>
            <a:endParaRPr b="0" lang="en-US" sz="6200" spc="-1" strike="noStrike">
              <a:solidFill>
                <a:srgbClr val="000000"/>
              </a:solidFill>
              <a:latin typeface="Bodoni SvtyTwo SC ITC TT-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70080" y="2019240"/>
            <a:ext cx="11531520" cy="756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esource Description Framework”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W3C Recommendation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(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Helvetica Neue"/>
                <a:hlinkClick r:id="rId1"/>
              </a:rPr>
              <a:t>http://www.w3.org/RDF</a:t>
            </a: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Helvetica Neue"/>
              </a:rPr>
              <a:t>RDF ist ein Datenmodell</a:t>
            </a:r>
            <a:endParaRPr b="0" lang="en-US" sz="42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rsprünglich: zur Angabe von Metadaten für Web-Ressourcen, später allgemeine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kodiert strukturierte Informationen 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1333440" indent="-571320">
              <a:spcBef>
                <a:spcPts val="2401"/>
              </a:spcBef>
              <a:buClr>
                <a:srgbClr val="000000"/>
              </a:buClr>
              <a:buFont typeface="Helvetica Neu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universelles, maschinenlesbares Austauschforma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9:38:23Z</dcterms:created>
  <dc:creator/>
  <dc:description/>
  <cp:keywords/>
  <dc:language>en-US</dc:language>
  <cp:lastModifiedBy>Sebastian Rudolph</cp:lastModifiedBy>
  <dcterms:modified xsi:type="dcterms:W3CDTF">2009-10-28T10:04:52Z</dcterms:modified>
  <cp:revision>12</cp:revision>
  <dc:subject/>
  <dc:title>Grundlagen Semantic Web</dc:title>
</cp:coreProperties>
</file>